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8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  <Override PartName="/ppt/slides/slide28.xml" ContentType="application/vnd.openxmlformats-officedocument.presentationml.slide+xml"/>
  <Override PartName="/ppt/slides/slide17.xml" ContentType="application/vnd.openxmlformats-officedocument.presentationml.slide+xml"/>
  <Override PartName="/ppt/slides/slide29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  <p:sldId id="281" r:id="rId40"/>
    <p:sldId id="282" r:id="rId41"/>
    <p:sldId id="283" r:id="rId42"/>
    <p:sldId id="284" r:id="rId4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slide" Target="slides/slide26.xml"/><Relationship Id="rId41" Type="http://schemas.openxmlformats.org/officeDocument/2006/relationships/slide" Target="slides/slide27.xml"/><Relationship Id="rId42" Type="http://schemas.openxmlformats.org/officeDocument/2006/relationships/slide" Target="slides/slide28.xml"/><Relationship Id="rId43" Type="http://schemas.openxmlformats.org/officeDocument/2006/relationships/slide" Target="slides/slide29.xml"/><Relationship Id="rId4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8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move the slide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0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1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2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D9FCD-89C6-4169-9E83-17AC0E0C361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Заместитель главного врача по организационно – методической работе ГЛПУ ТО ООД 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800" spc="-1" strike="noStrike">
                <a:solidFill>
                  <a:srgbClr val="000000"/>
                </a:solidFill>
                <a:latin typeface="Calibri"/>
              </a:rPr>
              <a:t>Т.А. Гайсин</a:t>
            </a: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321C06-DB20-4D6F-8794-AF2D5B43D1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Функции Кабинета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DA85A-C3CB-4FE8-BD1A-197321C7F97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причин отказов от госпитализац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чет онкологических больных; проживающих на прикрепленной к Кабинету территории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E0ED28-07DA-4C55-A5FF-A1AEC2E3CC4C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санитарно-гигиеническое просвещение населения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ценка полноты и эффективности профилактических осмотров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A782DB-8DE4-4A0E-9BE1-67818430EE3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В структуре Кабинете рекомендуется предусматрива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приема больных,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выполнения лечебных процедур, входящих в функции кабинета,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мещение для хранения медицинской документ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9EC564-00C1-4BE3-B4DD-6E379848F56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комендуемые штатные нормативы медицинского и 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52640E-083C-4842-83A2-3678CB92FA3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Стандарт оснащения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A6130D-F892-40EA-B3AB-D6245CB7746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об организации деятельности хосписа </a:t>
            </a:r>
            <a:br>
              <a:rPr sz="1000"/>
            </a:br>
            <a:r>
              <a:rPr b="1" lang="ru-RU" sz="1000" spc="-1" strike="noStrike">
                <a:solidFill>
                  <a:srgbClr val="000000"/>
                </a:solidFill>
                <a:latin typeface="Calibri"/>
              </a:rPr>
              <a:t>при оказании помощи онкологическим больным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EB7D-7453-4239-9E17-4F2DBC04311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7C9AB-A001-420C-9A55-2A6D43FD030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r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E0486E-1D7B-46E4-92B8-70BF1E4692BA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публиковано 21 декабря 2009 г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ступает в силу: 1 января 2010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Зарегистрирован в Минюсте РФ 15 декабря 2009 г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Регистрационный N 1560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  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ываю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Утвердить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Министр Т. Голикова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54A15C-9F50-4614-BA6F-D89B4A792CFD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FD5432-42FE-457D-B64A-CFD93C442451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Главному врачу ГЛПУ ТО «Областной онкологический диспансер»   (А.Г.Синякову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119E37-06F2-4AD2-8E86-959853015FA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    Рекомендовать руководителям органов управлени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tymen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-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onko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@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mail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.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Calibri"/>
              </a:rPr>
              <a:t>ru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  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Директор департамента                                                  А.Ю.Кудряков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marL="44784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331D74-A93F-4D71-85EC-B149B3D150D0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лагодарю за внимание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EAA3AD-040D-43D0-8232-C91C1C4E671F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Больным с онкологическими заболеваниями медицинская помощь оказывае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DD1FD2-5B53-40FD-9B5C-2916309D860B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Calibri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ED55BB-9502-4D01-85C3-8C6396207CA7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3FF2E1-E29B-4E03-BB41-8BC57F127D76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первого года один раз в три месяца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в течение второго года - один раз в шесть месяцев, в дальнейшем - один раз в год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7668-22D9-4914-9635-D9D8355F8A1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332C81-EDDC-47EB-AB62-BEA37E8B305E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100"/>
            </a:br>
            <a:r>
              <a:rPr b="1" lang="ru-RU" sz="11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 algn="just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1200" spc="-1" strike="noStrike" u="sng">
                <a:solidFill>
                  <a:srgbClr val="000000"/>
                </a:solidFill>
                <a:uFillTx/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EBFD05-08CB-42DF-85B5-8DBAC1456242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Положение</a:t>
            </a:r>
            <a:br>
              <a:rPr sz="1200"/>
            </a:br>
            <a:r>
              <a:rPr b="1" lang="ru-RU" sz="1200" spc="-1" strike="noStrike">
                <a:solidFill>
                  <a:srgbClr val="000000"/>
                </a:solidFill>
                <a:latin typeface="Calibri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F5412-F256-44AC-9A2A-819CE218AAD4}" type="slidenum">
              <a:rPr b="0" lang="uk-UA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D59AB-C314-4E8B-AB17-A6FAE35DE9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425F6-E9EC-4022-A919-3B4CBAE0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FB7BE2D-91D3-435B-9CD8-998D5980BC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5105818-E767-430B-AAE0-3B2C1B6A7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0036FFC-A5B8-4A54-95BE-FFB3C4577D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D16C90F-3184-4FEA-BB3A-72805D4F9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468129F-6F66-475C-B41C-0D31F132D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DF24269-8241-43A7-8316-83979BA9B5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FB8BFB3-D8EA-4F25-8CD5-468B78031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0464467-0799-48CC-A78B-64B9A0E88A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23BB48B-0035-4AA7-A0C2-89FBAC16B2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191B799-D939-4D0D-899B-EF170DE387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D7F5A-346F-417A-8D0A-437701393E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D6784706-5FF1-4E65-A3A2-1DFBB6E885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2D0407F-D6A6-4C0D-9333-95D1340909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C0A0ED2-970A-4329-B12F-8457FE5CC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EABC8D9-C22F-48FC-A0C4-53EB9FE98A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C02760D-A84E-4A9C-A6F5-8977179D7A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051B1AE-EA46-4297-A24E-7EABBB2D17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EAB976F-EB21-45CE-B5E0-0B4FDCDA45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D1D25C3-80DD-4FC2-BDC0-74F13188E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6148EF7-134B-4737-8F55-13E2E12857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8073D17-812D-4764-B1D2-18E88FD1F8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E487F-DBDF-451E-AC7E-73D4AD13C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2F08E4D-838F-4B14-A601-DEDAC4257C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41010D1-DE9D-4BA3-BC7E-06FB65CDC9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88B0A3-F6E9-4397-83B1-C88904FC9A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71A971-0FAB-4B73-AC34-58961EFFD7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6B2B7D-6929-4873-9F59-DC855D9CB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07C077F-7CF2-4D05-BD16-A133397276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284B735-DB19-42BB-89D5-8E371E6894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8FB748D-F833-4142-A3AF-143B603690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E93275D-C501-4196-A4BE-6F270D9CB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3C70D7A-68BD-436C-96FB-8FAB2D954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78306A-BA7D-4CE4-927B-B8F7F3B460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96D0B3-0CEB-40D8-87A2-5055144A32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D233E55-DB84-42CF-8AA6-E9D2620C0B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E71BAFE-0326-42D5-86B9-BC16E3A547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5DDB8E3-FD75-4CE5-B67E-4F28623A56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CBB3922-7AC3-483D-B10C-0944752C02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C4DDA09-4793-41A5-9624-752245B230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7FF8602-9E66-4A56-B259-52327BD4BE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5281060-516A-4F29-99E5-E94AFD1A49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B62491E-0842-4C18-B351-46C5D3257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47646F-4352-477A-937A-0D682E4075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B1D85D-407B-4CF8-9472-4C50DD452A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0E88608-B99B-4194-B68D-3D0C828154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39B4762-250F-436A-B8D8-9DD402B43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E6CEE95-41FF-4CB6-8D44-F8CA83E46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097EB-64FC-4DC4-BEDE-F609104CDB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D5872A7-7072-49E6-ACF9-EFE19CC414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A67750-C88F-4049-866A-39271BD004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6ECD99-B6A3-4B23-8F06-E5B48BF9F3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D1894-314C-4D84-954A-63974384D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CAF7E9-FC95-430E-81B2-E280CFE2E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CD45F5-D498-4FC4-8720-7323A2968C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40B60-EE7B-4333-8295-347B66D2E0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BD6F3C-A6AB-428E-A05A-7157E57961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939390-F148-4BA9-AC74-BFEFE01906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57E4A5-CC92-4C18-A94D-D5FD00BF59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2D470B-4899-4882-85ED-50397C23C9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539DDA-94EA-4AD5-A6DF-0CF2979A6F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9AE6FA-1132-4375-ABAE-8D30C3CDF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9ECE6E-818E-492B-9592-CB03956A31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B616B73-7CD3-4709-9317-0CDDFDF037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231BDBC-57F8-4A4C-84AF-A110BC9AD6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CE84809-CE4C-42D8-918E-1C38A8F012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4ABC7-E58F-4EA4-B1B7-9E9D777AE0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C6992E-DBB9-43EF-896E-75F5B2E026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1042B3-75C2-4C96-B939-B97FF9BC94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349011-A55A-466C-B33A-42F3DA6ED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9EBB89-FB56-4560-BDE1-CC3C4632E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64B8D5-9867-414B-A968-E57A43105A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2B2DBE-2C2F-4D6B-A4FE-ED4ACF40EB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8F253C-6338-40F8-B44F-7F0ADA22D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E96B4A9-5737-4082-86A4-4F2E96055B8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A3F4095-57D0-4DCE-A84C-56682EA668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DD25E0-2642-48F3-81E4-E308A675B5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14FCBC-E449-42C1-BA1C-58E324AFDA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B66D86A-2702-46C3-B7AB-C430A5AA96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36B3E2-5171-4922-821B-318AF57036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3F018-A7AC-4A63-BE7B-931C237460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FB59EC-0D7E-4444-A798-84FEBDB72C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9050CD-712C-435E-8172-80CA6FC0D4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51FD18-AFC2-4C96-8B24-348BA53CF4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F75AE97-3E50-489E-A0CA-B45EEC072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DA7AA3-B648-4D68-8369-ABEAFEEA4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74CD6FF-77F4-4628-B459-72592F909B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A2ACC-5202-4457-B460-E1152C0DE0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D4DC4-7228-4D61-BCF0-E4878079DC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E529907-3C34-4D27-8479-BE48954052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4E10D1-4235-46CD-8B32-04A1E70A06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867085B-6BBF-4FE8-8DE1-3B9CFB0272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4B20A7-E52E-47CB-B3EC-7EA298229E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928FF7D-EB30-4237-9004-D34341BF67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7E54348-B437-4485-83D1-34822C1722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148E59A-9DEF-46ED-A9EF-1F0DD3581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D22FE-7464-4947-9D57-68FC335DA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5E70AE-6C39-4761-B917-CEA31F7771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17F64BC-10E6-4F22-865C-20E1BCD2D4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F2F31-4455-4C04-8A86-731CECBE3C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F40BB83-C51E-4173-B88A-F69BB4E506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8E82A2-AA42-4A20-9CF1-A2C131284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E16C3C2-9AB3-4C66-BA27-F2F1B7AF53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3DB2A65-68E0-43FC-A662-DF9A56FD78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F8B66E-7048-4883-BBD6-FCBE8A605E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0E4870-FCBA-4ED1-BD14-010DEAECE3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B0E4E41-5061-4472-96F3-86B52A7BF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282198D-68FE-4072-BFB6-2D3BDC5B8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51FCC4A-EC45-45DF-8D5D-2572D204EB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06AED80-3AC5-41F2-A90A-C121A81456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B4D15F-1BA8-4ABD-9E68-C7FFF8C22F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D962FC-8F4A-45FD-A43E-CB3A38E87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397782-6B4A-410F-B935-BD1D1FB61A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5FDA83F-A004-49C8-90CB-AFB76FC881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7D252FE-F835-49C5-94CD-C1CEEC8657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244CF4B-D406-4C6E-B35B-DEC644B0A3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36DB872-26D0-4E7F-BA01-B6DA051CE4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92C4954-CE64-4D5D-87DB-2FE46A8FD74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217F17E-4284-46BD-BEC0-5A5E2BE188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1B967C7-5691-43E3-AC56-8F96561361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10A7FA-67E9-4048-97D7-BD7D47617D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B9D88-3972-4A57-BFC9-E29FD680AA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BBE99EC-CB35-492F-9B49-E41154F3E3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06A1081-0EC9-4953-B691-1C71DDF2E3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0B7C1BE-C38A-466F-9AC4-CAFE0F5236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7F59795-7001-4530-958E-9E82DAC43C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0141FBB-3DD2-439E-BD94-86737DCF6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BA3023-D064-4DFF-9641-FD85768F00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BED04D-1088-4430-BE22-B692312777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3E2B82B-724C-41A8-9EF3-9F578C7556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BEB3D04-0B43-44B1-A49E-21E96F8A30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56F47CC-A582-4046-968A-0E34D5E4A4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24A4-D839-4503-A469-B866EBF9D5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34A331-F0B8-48E4-8C20-1131FC54FA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482792D-5A3A-46A5-B99F-3A58C500B0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238363-DD3F-4922-AFAA-D5C14D8741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32A916-94FE-4588-A8D7-A68554972E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0042A51-3FD0-43EA-9EB2-BBC5C61C54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D650FE4-CB89-48F9-997A-2C634F6AA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F06AFEC-ED4B-409E-B7D3-9C376C6BA7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F9EA8A3-A092-4F01-A6A0-DCA1F1B114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B26807E8-A312-46AC-A40B-96F23C08E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13EFB35-16A1-4243-B362-E8068897C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B42288-CE01-4454-9564-F80820CA1A01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109A50-4779-4414-BA64-7E8075D8B8F5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9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Прямоугольник 25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Прямоугольник 26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Прямоугольник 2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72F03E-3CE7-4A2B-A5AE-9CF301E0D1CA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A734EF-84DB-41EA-A880-A5C1C819F6DD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C60FE-A117-4C2A-9985-65653E96C09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484E5-B06A-4191-AA15-175C6D3A3233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Прямоугольник 21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Прямоугольник 25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Прямая соединительная линия 26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Овал 27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Овал 28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43F6D4-E23B-4163-94D3-B1A2A536F61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B46AAF-5405-4E38-820B-08D383DCBD7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21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Прямоугольник 23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Прямая соединительная линия 25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Овал 27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Овал 28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837BA3-5996-4D46-A566-DF60CBA33E05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A57FAB-08C5-4433-B2C6-961CA7E55F7F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F4E35A-C17C-495A-98D9-69302B890DD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83B9BC-1205-4E3F-8019-3608740EBC5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Прямоугольник 21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23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Прямоугольник 24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Прямоугольник 25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Прямоугольник 26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27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Прямая соединительная линия 28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Овал 29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Овал 30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0C8169-2919-45C4-996F-3629B296E7AB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E9BCF0-96BD-4445-B36D-3424416CEA51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2B5563-C795-4974-BDF3-2F6A12268E9E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739FBC-C7CC-4A38-9E8C-0D806E661292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beec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4e3b3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Прямоугольник 21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Прямоугольник 24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Прямоугольник 25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Прямоугольник 26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Прямая соединительная линия 27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Прямоугольник 28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Овал 29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Овал 30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FF7401-17DA-4582-82E1-C8E4E26BB80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9D391D-432E-4050-937B-D48BF0B9C9D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D729C3-B74F-4C23-A9B2-FB7E9695AF90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998507-6B3E-4AD2-AA63-0E5363689304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Прямоугольник 24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Прямоугольник 25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2EE92E-ABF7-419A-B0A1-E76E0A4D942F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2BB365-422A-416C-BB68-9B92F9B167B1}" type="slidenum">
              <a:rPr b="0" lang="ru-RU" sz="1600" spc="-1" strike="noStrike">
                <a:solidFill>
                  <a:srgbClr val="ffffff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9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Прямоугольник 21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Прямоугольник 23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Прямоугольник 25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0a22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Прямоугольник 26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Прямая соединительная линия 27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f7a7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Овал 28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Овал 29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f7a7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Прямоугольник 30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b58b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f7a70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a5644e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b58b80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c3986d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a19574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f7a70"/>
                </a:solidFill>
                <a:latin typeface="Georgi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F78A1-6274-41CD-A36B-A81B474DBF98}" type="slidenum">
              <a:rPr b="0" lang="ru-RU" sz="1600" spc="-1" strike="noStrike">
                <a:solidFill>
                  <a:srgbClr val="9f7a70"/>
                </a:solidFill>
                <a:latin typeface="Georgia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A0516F-2209-44F2-9777-603DB92257B4}" type="datetime">
              <a:rPr b="0" lang="ru-RU" sz="1400" spc="-1" strike="noStrike">
                <a:solidFill>
                  <a:srgbClr val="ffffff"/>
                </a:solidFill>
                <a:latin typeface="Georgia"/>
              </a:rPr>
              <a:t>28.07.26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Georgi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ubTitle"/>
          </p:nvPr>
        </p:nvSpPr>
        <p:spPr>
          <a:xfrm>
            <a:off x="5643720" y="5643360"/>
            <a:ext cx="3186000" cy="68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Заместитель главного врача по организационно – методической работе ГЛПУ ТО ООД 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r"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000000"/>
                </a:solidFill>
                <a:latin typeface="Georgia"/>
              </a:rPr>
              <a:t>Т.А. Гайсин</a:t>
            </a:r>
            <a:endParaRPr b="0" lang="en-US" sz="1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title"/>
          </p:nvPr>
        </p:nvSpPr>
        <p:spPr>
          <a:xfrm>
            <a:off x="324000" y="1071360"/>
            <a:ext cx="8534160" cy="1857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3. Функции Кабинета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консультативная помощь по ведению онкологических больных на дому участковым врачом-терапевтом или врачом общей практики (семейным врачом), контроль за проведением симптоматического лечения онкологических больных;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выписывание наркотических средств списка II и  III   Перечня наркотических средств, психотропных веществ и их прекурсоров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457200" y="1599840"/>
            <a:ext cx="8229600" cy="4900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существление динамического наблюдения за больными, получающими лекарственную противоопухолевую терапию в соответствии с рекомендациями врача-онколога, проводимую специализированным онкологическим учреждением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мониторинг и оценка лабораторных показателей с целью предупреждения развития токсических реакций, своевременное направление больного в специализированное онкологическое учреждени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направление больных для паллиативного и симптоматического лечения в соответствующие отделения онкологических диспансеров (онкологических больниц), хосписы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причин отказов от госпитализац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чет онкологических больных; проживающих на прикрепленной к Кабинету территории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своевременности направления в онкологические диспансеры сведений о впервые выявленных случаях злокачественных новообразований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5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0112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47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консультативная и методическая помощь специалистам медицинских учреждений по вопросам проведения профилактических осмотров, диспансеризации больных с предопухолевыми и хроническими заболеваниями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санитарно-гигиеническое просвещение населения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и разбор с участковыми врачами-терапевтами, врачами общей практики (семейный врач), а также врачами-специалистами диагностических ошибок и причин запущенности онкологических заболеваний;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ценка полноты и эффективности профилактических осмотров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анализ оформления амбулаторно-поликлиническими учреждениями установленных форм медицинской документации при обследовании и лечении онкологических больны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едение учетной и отчетной документации, предоставление отчетов о деятельности в установленном порядке, сбор данных для регистров, ведение которых предусмотрено законодательством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61720" indent="-261720">
              <a:lnSpc>
                <a:spcPct val="80000"/>
              </a:lnSpc>
              <a:spcBef>
                <a:spcPts val="47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иные функции в соответствии с законодательством Российской Федерации, нормативными правовыми актами субъектов Российской Федерации, муниципальных образований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48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396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457200" y="1600200"/>
            <a:ext cx="822960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4. В структуре Кабинете рекомендуется предусматривать: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приема больных,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выполнения лечебных процедур, входящих в функции кабинета,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помещение для хранения медицинской документаци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5. Кабинет оснащается оборудованием в соответствии со стандартом оснащения (приложение №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5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285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Рекомендуемые штатные нормативы медицинского и 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иного персонала первичного онкологического отделения (кабинета), отделения городской и центральной районной поликлиники, отделений онкологического диспансера (онкологической больницы), отделения паллиативной помощи онкологическим больным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3" name=""/>
          <p:cNvGraphicFramePr/>
          <p:nvPr/>
        </p:nvGraphicFramePr>
        <p:xfrm>
          <a:off x="214200" y="1643040"/>
          <a:ext cx="8715600" cy="4608360"/>
        </p:xfrm>
        <a:graphic>
          <a:graphicData uri="http://schemas.openxmlformats.org/drawingml/2006/table">
            <a:tbl>
              <a:tblPr/>
              <a:tblGrid>
                <a:gridCol w="4143600"/>
                <a:gridCol w="4572000"/>
              </a:tblGrid>
              <a:tr h="48492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spcAft>
                          <a:spcPts val="400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Первичный онкологический отделение (кабинет) городской и центральной районной поликлиник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.Врачебны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93860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рач-онколог или врач-специалист, прошедший подготовку по онколог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орма нагрузки на амбулаторном прием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– 20 мин.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лечебно-диагностический прием (в т.ч. повторный) – 20 мин;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- консультативный прием (на выезде) – 60 мин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42640">
                <a:tc gridSpan="2">
                  <a:txBody>
                    <a:bodyPr lIns="54360" rIns="543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.Средний медицинский персонал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должность на 500 человек контингента диспансерных онкологических больных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84920"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Медицинская сестра процедурно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з расчета 1 должность на процедурный кабинет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27200">
                <a:tc gridSpan="2">
                  <a:txBody>
                    <a:bodyPr lIns="54360" rIns="5436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4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*Примечание: При меньшем числе контингента диспансерных онкологических больных– 1 должность врача и  1 должность среднего медицинского персонала в соотношении 1: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54360" marR="543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65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PlaceHolder 1"/>
          <p:cNvSpPr>
            <a:spLocks noGrp="1"/>
          </p:cNvSpPr>
          <p:nvPr>
            <p:ph type="title"/>
          </p:nvPr>
        </p:nvSpPr>
        <p:spPr>
          <a:xfrm>
            <a:off x="285480" y="142560"/>
            <a:ext cx="8605800" cy="973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Стандарт оснащения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федеральных организаций, оказывающих медицинскую помощь онкологическим больным, а также соответствующих организаций, находящихся в ведении субъекта Российской Федерации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 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56" name=""/>
          <p:cNvGraphicFramePr/>
          <p:nvPr/>
        </p:nvGraphicFramePr>
        <p:xfrm>
          <a:off x="285840" y="2571840"/>
          <a:ext cx="8501040" cy="3500280"/>
        </p:xfrm>
        <a:graphic>
          <a:graphicData uri="http://schemas.openxmlformats.org/drawingml/2006/table">
            <a:tbl>
              <a:tblPr/>
              <a:tblGrid>
                <a:gridCol w="5352840"/>
                <a:gridCol w="3148200"/>
              </a:tblGrid>
              <a:tr h="622440"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именование оснащения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marL="12600"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Требуемое количество, шт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940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Ламинарная камера для стерильного разведения лекарственных препаратов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201"/>
                        </a:spcBef>
                        <a:spcAft>
                          <a:spcPts val="201"/>
                        </a:spcAft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есы для взвешивания больных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98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Инфузом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68580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1 на 6 коек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958680">
                <a:tc>
                  <a:txBody>
                    <a:bodyPr lIns="25560" rIns="25560" tIns="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ейф для хранения сильнодействующих и психотропных средств, документации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5560" rIns="25560" tIns="0" bIns="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2 на отделен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5560" marR="255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57" name="Прямоугольник 4"/>
          <p:cNvSpPr/>
          <p:nvPr/>
        </p:nvSpPr>
        <p:spPr>
          <a:xfrm>
            <a:off x="1214280" y="1916280"/>
            <a:ext cx="664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ервичное онкологическое отделение (кабинет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9" name="PlaceHolder 1"/>
          <p:cNvSpPr>
            <a:spLocks noGrp="1"/>
          </p:cNvSpPr>
          <p:nvPr>
            <p:ph type="title"/>
          </p:nvPr>
        </p:nvSpPr>
        <p:spPr>
          <a:xfrm>
            <a:off x="214200" y="142920"/>
            <a:ext cx="871560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об организации деятельности хосписа </a:t>
            </a:r>
            <a:br>
              <a:rPr sz="2000"/>
            </a:b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при оказании помощи онкологическим больным</a:t>
            </a:r>
            <a:endParaRPr b="0" lang="en-US" sz="20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6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Настоящее Положение регулирует организацию деятельности хосписа по оказанию медицинской, социальной, психологической помощи больным с распространенными формами онкологических заболеваний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Хоспис является учреждением здравоохранения, предназначенным для оказания медицинской, социальной, психологической, юридической помощи преимущественно инкурабельным онкологическим больным по рекомендации врача-онколога с целью обеспечения необходимой обезболивающей терапии, оказания медико-социальной помощи, ухода, психо-социальной реабилитации, а также психологической и социальной поддержки родственников.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75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61" name="Місце для нижнього колонтитула 3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2" name="Заголовок 11"/>
          <p:cNvSpPr/>
          <p:nvPr/>
        </p:nvSpPr>
        <p:spPr>
          <a:xfrm>
            <a:off x="971640" y="18900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63" name="Object 2"/>
          <p:cNvGraphicFramePr/>
          <p:nvPr/>
        </p:nvGraphicFramePr>
        <p:xfrm>
          <a:off x="216000" y="115920"/>
          <a:ext cx="8748720" cy="6121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4" name="Object 2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6000" y="115920"/>
                    <a:ext cx="8748720" cy="6121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6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Rectangle 1"/>
          <p:cNvSpPr/>
          <p:nvPr/>
        </p:nvSpPr>
        <p:spPr>
          <a:xfrm>
            <a:off x="285840" y="459000"/>
            <a:ext cx="8501040" cy="550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ИНИСТЕРСТВО ЗДРАВООХРАНЕНИЯ И СОЦИАЛЬНОГО РАЗВИТИ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ОССИЙСКОЙ ФЕДЕРАЦИИ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«УТВЕРЖДАЮ»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меститель министра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дравоохранения и социального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звития Российской Федерации</a:t>
            </a:r>
            <a:br>
              <a:rPr sz="1600"/>
            </a:b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.И. Скворцо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ГОРИТМЫ ВЫЯВЛЕНИЯ ОНКОЛОГИЧЕСКИХ ЗАБОЛЕВАНИЙ В РАБОТЕ ВРАЧА ОБЩЕЙ ПРАКТ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тодические рекомендации для организаторов здравоохранения, врачей общей практики, профильных специалистов, врачей-онкологов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осква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009 г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8780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Номер слайда 5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6EDA7-4A9D-4DDB-9713-DA29ADDAD5ED}" type="slidenum">
              <a:rPr b="0" lang="ru-RU" sz="1200" spc="-1" strike="noStrike">
                <a:solidFill>
                  <a:srgbClr val="898989"/>
                </a:solidFill>
                <a:latin typeface="Georgi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9" name="Заголовок 1"/>
          <p:cNvSpPr/>
          <p:nvPr/>
        </p:nvSpPr>
        <p:spPr>
          <a:xfrm>
            <a:off x="3143160" y="6357960"/>
            <a:ext cx="328608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0" name="Заголовок 11"/>
          <p:cNvSpPr/>
          <p:nvPr/>
        </p:nvSpPr>
        <p:spPr>
          <a:xfrm>
            <a:off x="971640" y="44280"/>
            <a:ext cx="7561080" cy="50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1" name="Подзаголовок 2"/>
          <p:cNvSpPr/>
          <p:nvPr/>
        </p:nvSpPr>
        <p:spPr>
          <a:xfrm>
            <a:off x="8532720" y="6429240"/>
            <a:ext cx="61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2" name="Text Box 12"/>
          <p:cNvSpPr/>
          <p:nvPr/>
        </p:nvSpPr>
        <p:spPr>
          <a:xfrm>
            <a:off x="8317080" y="6453360"/>
            <a:ext cx="8269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73" name="Object 11"/>
          <p:cNvGraphicFramePr/>
          <p:nvPr/>
        </p:nvGraphicFramePr>
        <p:xfrm>
          <a:off x="324000" y="189000"/>
          <a:ext cx="8496000" cy="5984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Object 11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189000"/>
                    <a:ext cx="8496000" cy="5984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9288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6760"/>
            <a:ext cx="8504280" cy="4759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Опубликовано 21 декабря 2009 г. 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ступает в силу: 1 января 2010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Зарегистрирован в Минюсте РФ 15 декабря 2009 г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Регистрационный N 15605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  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В соответствии со статьей 37.1 Основ законодательства Российской Федерации об охране здоровья граждан от 22 июля 1993 г. N 5487-1 (Ведомости Съезда народных депутатов Российской Федерации и Верховного Совета Российской Федерации, 1993, N 33, ст. 1318; Собрание законодательства Российской Федерации, 2007, N 1, ст. 21)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Утвердить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 согласно приложению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Министр Т. Голикова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TextBox 4"/>
          <p:cNvSpPr/>
          <p:nvPr/>
        </p:nvSpPr>
        <p:spPr>
          <a:xfrm>
            <a:off x="571680" y="214200"/>
            <a:ext cx="77864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соответствии с приказом Министерства здравоохранения и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, с целью своевременного обеспечения подачи сведений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7" name="TextBox 5"/>
          <p:cNvSpPr/>
          <p:nvPr/>
        </p:nvSpPr>
        <p:spPr>
          <a:xfrm>
            <a:off x="285840" y="1643040"/>
            <a:ext cx="8572320" cy="499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риказываю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 Главным врачам ЛПУ юга Тюменской области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1.  Сосредоточить все виды онкологической помощи и диспансерного наблюдения пациентов  на уровне плановой первичной медико-санитарной помощи, в кабинетах первичного онкологического приема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2.  Обеспечить непрерывную работу кабинета первичного онкологического приема, укомплектовать кадрами в том числе за счет возможного совмещения ставок,в соответствии с приказом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3.  Укомплектовать кабинеты первичного онкологического приема в соответствии с табелем оснащения по приказу МЗиСР №944н от 03.12.2009 «Об утверждении порядка оказания медицинской помощи населению при онкологических заболеваниях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4.  Обеспечить регистрацию пациентов, с нарастающим итогом с 01.01.2010 года, впервые обратившихся в кабинет первичного онкологического приема, а так же пациентов, направленных в онкологический диспансер (по локализациям), для чего ввести соответствующие журналы (Приложение №1)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.5.  На основании документации первичного онкологического кабинета информация по мониторингу(Приложение №2) предоставляется в срок до 28 числа отчетного месяца: по электронной почте 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4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4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8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9" name="TextBox 1"/>
          <p:cNvSpPr/>
          <p:nvPr/>
        </p:nvSpPr>
        <p:spPr>
          <a:xfrm>
            <a:off x="285840" y="285840"/>
            <a:ext cx="864396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 Главному врачу ГЛПУ ТО «Областной онкологический диспансер»   (А.Г.Синякову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1. Обеспечить свод и анализ информации в соответствии с приказом Министерства здравоохранения социального развития Российской Федерации от 18.01.2010 года №16 г.Москва «О порядке организации мониторинга реализации мероприятий, направленных на совершенствование организации онкологической помощи населению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2. Проводить в ежемесячном режиме курацию районных ЛПУ и поликлиник г.Тюмени по методике мониторирования и оказывать консультативную помощь по необходим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3. Подготовленную информацию предоставлять на электронном и бумажном носителе в департамент здравоохранения Тюменской области сроком до 3 числа очередного месяц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2.4. ГЛПУ ТО «Областной онкологический диспансер» в срок до 15.02.2010г обеспечить все ЛПУ юга Тюменской области и поликлиник г.Тюмени экземпляром журнала регистрации и инструкции по его заполнению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0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1" name="TextBox 1"/>
          <p:cNvSpPr/>
          <p:nvPr/>
        </p:nvSpPr>
        <p:spPr>
          <a:xfrm>
            <a:off x="214200" y="285840"/>
            <a:ext cx="8715600" cy="58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3.   Учитывать результаты работы по мониторингу, направленного на совершенствование организации онкологической помощи населению, при определении размера премирования главных врачей областных ЛПУ, поликлиник г.Тюмени, главного врача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    Рекомендовать руководителям органов управления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1. Начальнику управления по здравоохранению администрации г.Тюмени (Ярцеву С.Е.) и советнику главы администрации г.Тобольска (Репетиеву В.И.), обеспечить исполнение данного приказа в муниципальных учреждениях г.Тюмени и г.Тобольск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4.2. Производить свод информации по поликлиникам г.Тюмени и предоставлять в ГЛПУ ТО «Областной онкологический диспансер» общую информацию сроком до 28 числа отчетного месяца. : по электронной почте 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tymen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-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onko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@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mail</a:t>
            </a:r>
            <a:r>
              <a:rPr b="0" lang="ru-RU" sz="1800" spc="-1" strike="noStrike" u="sng">
                <a:solidFill>
                  <a:srgbClr val="000000"/>
                </a:solidFill>
                <a:uFillTx/>
                <a:latin typeface="Georgia"/>
              </a:rPr>
              <a:t>.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Georgia"/>
              </a:rPr>
              <a:t>ru</a:t>
            </a: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 и дублировать на бумажном носителе в канцелярию департамента здравоохранения с пометкой для ГЛПУ ТО «Областной онкологический диспансер»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5.    Контроль за исполнением приказа возложить на  первого заместителя директора департамента Н.С.Брынз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 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447840" indent="-447840"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Georgia"/>
              </a:rPr>
              <a:t>Директор департамента                                                  А.Ю.Кудряк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2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3" name="Rectangle 1"/>
          <p:cNvSpPr/>
          <p:nvPr/>
        </p:nvSpPr>
        <p:spPr>
          <a:xfrm>
            <a:off x="2105640" y="143280"/>
            <a:ext cx="4728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  <a:ea typeface="Times New Roman"/>
              </a:rPr>
              <a:t>Журнал учета оказания онкологической помощи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4" name=""/>
          <p:cNvGraphicFramePr/>
          <p:nvPr/>
        </p:nvGraphicFramePr>
        <p:xfrm>
          <a:off x="285840" y="500040"/>
          <a:ext cx="8572320" cy="1143000"/>
        </p:xfrm>
        <a:graphic>
          <a:graphicData uri="http://schemas.openxmlformats.org/drawingml/2006/table">
            <a:tbl>
              <a:tblPr/>
              <a:tblGrid>
                <a:gridCol w="662040"/>
                <a:gridCol w="815760"/>
                <a:gridCol w="946080"/>
                <a:gridCol w="1273320"/>
                <a:gridCol w="1238400"/>
                <a:gridCol w="636480"/>
                <a:gridCol w="636480"/>
                <a:gridCol w="636480"/>
                <a:gridCol w="863640"/>
                <a:gridCol w="863640"/>
              </a:tblGrid>
              <a:tr h="245160"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Ф.И.О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дрес пациен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обращен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вар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ата направления в диспансер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5"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ключительный диагноз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73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Ds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ка исключен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85840" y="1960560"/>
          <a:ext cx="8572320" cy="4681440"/>
        </p:xfrm>
        <a:graphic>
          <a:graphicData uri="http://schemas.openxmlformats.org/drawingml/2006/table">
            <a:tbl>
              <a:tblPr/>
              <a:tblGrid>
                <a:gridCol w="339480"/>
                <a:gridCol w="330480"/>
                <a:gridCol w="295200"/>
                <a:gridCol w="361800"/>
                <a:gridCol w="411120"/>
                <a:gridCol w="411480"/>
                <a:gridCol w="411120"/>
                <a:gridCol w="334800"/>
                <a:gridCol w="246240"/>
                <a:gridCol w="245880"/>
                <a:gridCol w="328680"/>
                <a:gridCol w="365040"/>
                <a:gridCol w="461880"/>
                <a:gridCol w="536760"/>
                <a:gridCol w="520560"/>
                <a:gridCol w="596880"/>
                <a:gridCol w="519120"/>
                <a:gridCol w="520920"/>
                <a:gridCol w="371520"/>
                <a:gridCol w="371160"/>
                <a:gridCol w="592200"/>
              </a:tblGrid>
              <a:tr h="1373040">
                <a:tc gridSpan="13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Метод подтверждения диагноз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5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роведено лечен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Число умерших больных от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тол. иссл. умерших от  ЗН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73200"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Эндоскопичес-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УЗ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ент-генологическ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аборатор-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диоизотопны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ГХ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Химиотерап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Лучев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пер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омбинирован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Паллиативно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е состоящих на учет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4236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Г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БС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зят  о        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на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ию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КТ 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 контрастированием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Гематол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Цитолог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ИФ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Всего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канирований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85480"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040" rIns="41040" tIns="21600" bIns="2160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040" marR="410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6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7" name=""/>
          <p:cNvGraphicFramePr/>
          <p:nvPr/>
        </p:nvGraphicFramePr>
        <p:xfrm>
          <a:off x="214200" y="1643040"/>
          <a:ext cx="8715600" cy="4654440"/>
        </p:xfrm>
        <a:graphic>
          <a:graphicData uri="http://schemas.openxmlformats.org/drawingml/2006/table">
            <a:tbl>
              <a:tblPr/>
              <a:tblGrid>
                <a:gridCol w="357480"/>
                <a:gridCol w="2268360"/>
                <a:gridCol w="541440"/>
                <a:gridCol w="1076400"/>
                <a:gridCol w="739440"/>
                <a:gridCol w="1011240"/>
                <a:gridCol w="1009800"/>
                <a:gridCol w="855720"/>
                <a:gridCol w="855720"/>
              </a:tblGrid>
              <a:tr h="420480"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специальности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планировано обучение на год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готовлено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существляется подготовка специалистов на отчетную дату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681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лась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шли профессиональ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именование учреждения образования и (или) науки, в котором осуществляется подготовка специалистов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овышение квалифика-ции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ходят профессионал-ную переподготовку, человек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йрохирур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318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кушерство и гине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р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600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нест. – реанимат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132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ая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линическая лаб. диагностика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96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0240"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2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Детская онкология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1400" rIns="41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1400" marR="41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88" name="Rectangle 1"/>
          <p:cNvSpPr/>
          <p:nvPr/>
        </p:nvSpPr>
        <p:spPr>
          <a:xfrm>
            <a:off x="0" y="220680"/>
            <a:ext cx="9001080" cy="14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ежемесячного отчета по мониторингу  оказания онкологической помощи.                    Форма № МОПН-К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 подготовке медицинского персонала для учреждений здравоохранения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_______________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_ 200_ г.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0180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1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Rectangle 1"/>
          <p:cNvSpPr/>
          <p:nvPr/>
        </p:nvSpPr>
        <p:spPr>
          <a:xfrm>
            <a:off x="214200" y="151560"/>
            <a:ext cx="864396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Форма № МОПН-ЦП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едения об основных целевых показателях деятельности учреждений субъекта Российской Федерации и муниципальных образований, участвующих в реализации мероприятий, направленных на совершенствование организации онкологической помощи населению*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_________________________________________________________________________________________________________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субъект Российской Федер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_____________ 200_ г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месяц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449280" algn="ctr"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азатели деятельности первичных онкологических кабинетов (отделений) (муниципальное звено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357120" y="2071800"/>
          <a:ext cx="8429760" cy="3882960"/>
        </p:xfrm>
        <a:graphic>
          <a:graphicData uri="http://schemas.openxmlformats.org/drawingml/2006/table">
            <a:tbl>
              <a:tblPr/>
              <a:tblGrid>
                <a:gridCol w="546120"/>
                <a:gridCol w="2825640"/>
                <a:gridCol w="1686240"/>
                <a:gridCol w="1685880"/>
                <a:gridCol w="1685880"/>
              </a:tblGrid>
              <a:tr h="2523960"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енность прикрепленного населения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отчетный период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циентов, прошедших через первичный кабинет за соответствующий период, предшествующий отчетному, человек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3590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6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рвичный онкологический кабинет (отделение) (муниципальное звено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2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Rectangle 1"/>
          <p:cNvSpPr/>
          <p:nvPr/>
        </p:nvSpPr>
        <p:spPr>
          <a:xfrm>
            <a:off x="142920" y="142920"/>
            <a:ext cx="8858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тингенты выявленных первичными онкологическими кабинетами (отделениям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94" name=""/>
          <p:cNvGraphicFramePr/>
          <p:nvPr/>
        </p:nvGraphicFramePr>
        <p:xfrm>
          <a:off x="214200" y="571680"/>
          <a:ext cx="8715600" cy="5879880"/>
        </p:xfrm>
        <a:graphic>
          <a:graphicData uri="http://schemas.openxmlformats.org/drawingml/2006/table">
            <a:tbl>
              <a:tblPr/>
              <a:tblGrid>
                <a:gridCol w="500040"/>
                <a:gridCol w="2384640"/>
                <a:gridCol w="542880"/>
                <a:gridCol w="1312920"/>
                <a:gridCol w="1312920"/>
                <a:gridCol w="1331640"/>
                <a:gridCol w="1330560"/>
              </a:tblGrid>
              <a:tr h="385560"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№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/п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казател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row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се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отчетный пери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 соответствующий период, предшествующий отчетному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48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аправлено в региональный или окружной онкологический диспансер (РОД/ООД) для уточнения диагно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больных, с подтвержденным диагнозом в РОД или ООД диагнозо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spcAft>
                          <a:spcPts val="1001"/>
                        </a:spcAft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2476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осмотренных с целью выявления злокачественных новообразований (ЗНО), всего 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л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ищевод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егки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лудо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ямая кишк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ечень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7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желудоч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8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щитовид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9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едстательная желез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0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очеполовая система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1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женские тазовые органы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2212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2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локачественные опухоли кож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3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ов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368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4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звоночник и спинной мозг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5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сти, суставы и мягкие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02680">
                <a:tc>
                  <a:txBody>
                    <a:bodyPr lIns="42840" rIns="4284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.16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имфатическая и кроветворная ткани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42840" rIns="4284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42840" marR="428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5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6" name=""/>
          <p:cNvGraphicFramePr/>
          <p:nvPr/>
        </p:nvGraphicFramePr>
        <p:xfrm>
          <a:off x="214200" y="214200"/>
          <a:ext cx="8715600" cy="5973840"/>
        </p:xfrm>
        <a:graphic>
          <a:graphicData uri="http://schemas.openxmlformats.org/drawingml/2006/table">
            <a:tbl>
              <a:tblPr/>
              <a:tblGrid>
                <a:gridCol w="500040"/>
                <a:gridCol w="2813040"/>
                <a:gridCol w="865440"/>
                <a:gridCol w="1008000"/>
                <a:gridCol w="1295280"/>
                <a:gridCol w="1152720"/>
                <a:gridCol w="1081080"/>
              </a:tblGrid>
              <a:tr h="85284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впервые зарегистрированных больных ЗНО, всего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II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IV стадии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одтверждено специальным исследованием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ентгенологические исследования, всег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2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льтразвуков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эндоскоп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ронхоскоп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следований желудочно-кишечного тракта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 взятием материалов на цитоморфологическое исследова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4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абораторные исследования (число проведенных анализов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ема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цитологическ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ферментные анализы крови на онкомаркеры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7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98" name=""/>
          <p:cNvGraphicFramePr/>
          <p:nvPr/>
        </p:nvGraphicFramePr>
        <p:xfrm>
          <a:off x="214200" y="285840"/>
          <a:ext cx="8715600" cy="5121360"/>
        </p:xfrm>
        <a:graphic>
          <a:graphicData uri="http://schemas.openxmlformats.org/drawingml/2006/table">
            <a:tbl>
              <a:tblPr/>
              <a:tblGrid>
                <a:gridCol w="500040"/>
                <a:gridCol w="2928960"/>
                <a:gridCol w="857520"/>
                <a:gridCol w="900000"/>
                <a:gridCol w="1295280"/>
                <a:gridCol w="1152720"/>
                <a:gridCol w="1081080"/>
              </a:tblGrid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5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МРТ (КТ)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ыполненные с использованием контрастных препаратов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 rowSpan="2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радиоизотопны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       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 том числ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канирований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5.7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ммуногистохимические исследования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 rowSpan="6"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.6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числа выявленных, в том числе ранее, больных ЗНО I, II, III, IV стадий проведено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химиотерапевтическ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лучев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ператив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омбинированное лечение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13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аллиативная терапия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умерших больных от ЗН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 </a:t>
                      </a: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з них: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660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.1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е состоявших под диспансерным наблюдением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39720"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.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Число патологоанатомических исследований умерших больных от ЗНО, всего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24480" rIns="2448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24480" marR="2448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9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TextBox 1"/>
          <p:cNvSpPr/>
          <p:nvPr/>
        </p:nvSpPr>
        <p:spPr>
          <a:xfrm>
            <a:off x="2157480" y="2786040"/>
            <a:ext cx="4195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лагодарю за внима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428400" y="142920"/>
            <a:ext cx="80722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214200" y="142884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Настоящий Порядок регулирует вопросы оказания медицинской помощи населению при онкологических заболеваниях в государственных и муниципаль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Больным с онкологическими заболеваниями медицинская помощь оказывае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первичной медико-санитарной помощи - терапевтическая, хирургическая и онкологическая помощь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рамках плановой специализированной, в том числе высокотехнологичной медицинской помощи - специализированная онкологическая помощь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помощи больным с онкологическими заболеваниями в рамках первичной медико-санитарной помощи организуется в амбулаторно-поликлинических и больничных учреждениях здравоохранения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000000"/>
              </a:buClr>
              <a:buSzPct val="85000"/>
              <a:buFont typeface="Georgi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Оказание плановой специализированной, в том числе высокотехнологичной медицинской помощи больным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1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2960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214200" y="1500120"/>
            <a:ext cx="8715600" cy="5214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3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000000"/>
              </a:buClr>
              <a:buFont typeface="Georgi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Плановая онкологическая помощь в рамках первичной медико-санитарной помощи в амбулаторно-поликлинических учреждениях оказывается на основе взаимодействия врачей первичного звена здравоохранения: участковых врачей-терапевтов, врачей общей практики (семейных врачей), врачей-хирургов и врачей-онколог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	</a:t>
            </a: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Медицинские работники фельдшерско-акушерских пунктов оказывают медицинскую помощь больным с онкологическими заболеваниями в соответствии с рекомендациями врачей-онкологов и врачей-специалистов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1.       В амбулаторно-поликлинических учреждениях участковые врачи-терапевты, врачи общей практики (семейные врачи), врачи-хирурги во взаимодействии с врачами-специалистами выявляют риск развития онкологических заболеваний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2.       При подозрении или выявлении опухолевого заболевания пациента направляют в первичный онкологический кабинет (отделение), после чего врач-специалист первичного онкологического кабинета направляет пациента в онкологический диспансер, онкологическую больницу для уточнения диагноза и определения последующей тактики ведения пациента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3.       В случае подозрения и/или выявления у пациента злокачественного новообразования врач-специалист первичного онкологического кабинета уведомляет организационно-методический отдел онкологического диспансера для постановки больного на учет (с его добровольного информированного согласия)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300" spc="-1" strike="noStrike">
                <a:solidFill>
                  <a:srgbClr val="000000"/>
                </a:solidFill>
                <a:latin typeface="Georgia"/>
              </a:rPr>
              <a:t>5.4.        В случае подтверждения в онкологическом диспансере у пациента факта наличия онкологического заболевания, информация о диагнозе пациента (с его добровольного информированного согласия) направляется из организационно-методического отдела онкологического диспансера в первичный онкологический кабинет, из которого был направлен пациент для последующего диспансерного наблюдения.</a:t>
            </a: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26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4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428760" y="142920"/>
            <a:ext cx="8286480" cy="10713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214200" y="1500120"/>
            <a:ext cx="8715600" cy="4929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6. В амбулаторно-поликлинических учреждениях онкологическая помощь больным с онкологическими заболеваниями оказывается врачами-онкологами в первичном онкологическом кабинете (отделении, дневном стационаре), осуществляющим свою деятельность в соответствии с Положениями об организации деятельности первичного онкологического кабинета поликлиники, первичного онкологического отделения (приложения N 1 и 2 к Порядку оказания медицинской помощи населению при онкологических заболеваниях, утвержденному настоящим приказом)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 Плановое стационарное обследование и лечение больных с онкологическими заболеваниями осуществляется в федеральных организациях, оказывающих медицинскую помощь, а также в соответствующих организациях, находящихся в ведении субъекта Российской Федерации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59200" indent="-259200" algn="just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7.1. Специализированная, в том числе высокотехнологичная медицинская помощь больным с онкологическими заболеваниями оказывается в федеральных организациях, оказывающих медицинскую помощь, а также в онкологическом диспансере, онкологической больнице, осуществляющих свою деятельность в соответствии с Положением об организации деятельности онкологического диспансера (онкологической больницы) (приложение N 4 к Порядку оказания медицинской помощи населению при онкологических заболеваниях, утвержденному настоящим приказом) и с учетом рекомендуемых штатных нормативов (приложение N 3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27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57120" y="214200"/>
            <a:ext cx="842976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285840" y="1571400"/>
            <a:ext cx="85723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2. Оснащение онкологического диспансера, онкологической больницы осуществляется в зависимости от профиля структурного подразделения в соответствии со стандартами оснащения (приложение N 5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3.   При выявлении у больного в онкологическом диспансере медицинских показаний к высокотехнологичным методам лечения помощь оказывается ему в соответствии с установленным порядком оказания высокотехнологичной медицинской помощи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7.4. Больные злокачественными новообразованиями подлежат пожизненному диспансерному наблюдению в онкологическом диспансере. Если течение заболевания не требует изменения тактики ведения пациента, диспансерные осмотры после проведенного лечения осуществляются: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первого года один раз в три месяца;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>
              <a:spcBef>
                <a:spcPts val="400"/>
              </a:spcBef>
              <a:buClr>
                <a:srgbClr val="f0a22e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Georgia"/>
              </a:rPr>
              <a:t>в течение второго года - один раз в шесть месяцев, в дальнейшем - один раз в год.</a:t>
            </a: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0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28760" y="214200"/>
            <a:ext cx="8286480" cy="10000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Georgia"/>
              </a:rPr>
              <a:t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»</a:t>
            </a:r>
            <a:endParaRPr b="0" lang="en-US" sz="16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2" name=""/>
          <p:cNvSpPr txBox="1"/>
          <p:nvPr/>
        </p:nvSpPr>
        <p:spPr>
          <a:xfrm>
            <a:off x="214200" y="1356840"/>
            <a:ext cx="8715600" cy="5286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Georgia"/>
              </a:rPr>
              <a:t>Порядок оказания медицинской помощи населению при онкологических заболеваниях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: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ctr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8.     В организации онкологической помощи больным сочетаются лечебные методы (хирургический, радиотерапевтический и лекарственный) и паллиативные мероприятия в отделениях (хосписе), осуществляющих свою деятельность в соответствии с положениями об организации деятельности структурных подразделений федеральных организаций, оказывающих медицинскую помощь онкологическим больным, а также в соответствующих организациях, находящихся в ведении субъекта Российской Федерации (приложения N 4 и 6 к Порядку оказания медицинской помощи населению при онкологических заболеваниях, утвержденному настоящим приказом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9.    Скорая медицинская помощь больным злокачественными новообразованиями оказывается станциями (подстанциями) скорой медицинской помощи и отделениями скорой медицинской помощи при районных и центральных районных больницах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Оказание скорой медицинской помощи больным злокачественными новообразованиями осуществляют специализированные реаниматологические, врачебные и фельдшерские выездные бригады, штатный состав которых определен приказом Мин-здравсоцразвития России от 1 ноября 2004 г. N 179 "Об утверждении порядка оказания скорой медицинской помощи" (зарегистрирован Минюстом России 23 ноября 2004 г., регистрационный N 6136)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При подозрении и/или выявлении у больных злокачественного новообразования в ходе оказания им скорой медицинской помощи, таких больных переводят или направляют в онкологические диспансеры (онкологические больницы) для определения тактики ведения и необходимости применения дополнительно других методов специализированного противоопухолевого лечения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000000"/>
                </a:solidFill>
                <a:latin typeface="Georgia"/>
              </a:rPr>
              <a:t>10. В случае если проведение медицинских манипуляций, связанных с оказанием помощи онкологическим больным, может повлечь возникновение болевых ощущений у пациента, такие манипуляции должны проводиться с обезболиванием.</a:t>
            </a:r>
            <a:endParaRPr b="0" lang="en-US" sz="1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3" name="Місце для нижнього колонтитула 1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1. Настоящее Положение определяет организацию деятельности первичного онкологического кабинета городской и центральной районной поликлиники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Georgia"/>
              </a:rPr>
              <a:t>2. Первичный онкологический кабинет (далее - Кабинет) создается в городской и центральной районной поликлинике при обслуживании контингента онкологических больных до 500 человек для обеспечения консультативной, диагностической помощью больным с онкологическими и предопухолевыми заболеваниями, своевременного направления больных в онкологическое учреждение для определения тактики ведения, диспансерного наблюдения онкологических больных, мониторинга за состоянием здоровья пациентов групп риска.</a:t>
            </a:r>
            <a:r>
              <a:rPr b="0" lang="ru-RU" sz="2000" spc="-1" strike="noStrike" u="sng">
                <a:solidFill>
                  <a:srgbClr val="000000"/>
                </a:solidFill>
                <a:uFillTx/>
                <a:latin typeface="Georgi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6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8683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Положение</a:t>
            </a:r>
            <a:br>
              <a:rPr sz="1800"/>
            </a:br>
            <a:r>
              <a:rPr b="1" lang="ru-RU" sz="1800" spc="-1" strike="noStrike">
                <a:solidFill>
                  <a:srgbClr val="000000"/>
                </a:solidFill>
                <a:latin typeface="Georgia"/>
              </a:rPr>
              <a:t>об организации деятельности первичного онкологического кабинета городской и центральной районной поликлиники</a:t>
            </a:r>
            <a:endParaRPr b="0" lang="en-US" sz="1800" spc="-1" strike="noStrike">
              <a:solidFill>
                <a:srgbClr val="9f7a70"/>
              </a:solidFill>
              <a:latin typeface="Georgia"/>
            </a:endParaRPr>
          </a:p>
        </p:txBody>
      </p:sp>
      <p:graphicFrame>
        <p:nvGraphicFramePr>
          <p:cNvPr id="638" name=""/>
          <p:cNvGraphicFramePr/>
          <p:nvPr/>
        </p:nvGraphicFramePr>
        <p:xfrm>
          <a:off x="214200" y="1357200"/>
          <a:ext cx="8715600" cy="5100840"/>
        </p:xfrm>
        <a:graphic>
          <a:graphicData uri="http://schemas.openxmlformats.org/drawingml/2006/table">
            <a:tbl>
              <a:tblPr/>
              <a:tblGrid>
                <a:gridCol w="1928880"/>
                <a:gridCol w="857160"/>
                <a:gridCol w="1285920"/>
                <a:gridCol w="1714680"/>
                <a:gridCol w="2928960"/>
              </a:tblGrid>
              <a:tr h="536040"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Районы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Состоит на конец года (чел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Штатный норматив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Фактическое обеспечение онкологами (ставок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ctr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Обучение по онкологии 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00" spc="-1" strike="noStrike">
                          <a:solidFill>
                            <a:srgbClr val="000000"/>
                          </a:solidFill>
                          <a:latin typeface="Georgia"/>
                          <a:ea typeface="Times New Roman"/>
                        </a:rPr>
                        <a:t>(вид учебы, год)</a:t>
                      </a:r>
                      <a:endParaRPr b="0" lang="en-US" sz="9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б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мизо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.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Аромаше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Бердюж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0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агай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Викул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Ишим, Ишимский р-н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8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.Тобольск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7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Голышман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8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Заводоу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8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се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4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Каза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Н-Тавд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0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чеба 144ч.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Омут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6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7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лад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орок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6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080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оболь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Тюме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5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Сертификат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ват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Уп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32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3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Юргин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1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-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116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лутор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05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Профпереподготовка 2005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972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Ярковски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7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0,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4ч. по онкологии 2008г.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88640"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Итого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326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24,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100" spc="-1" strike="noStrike">
                          <a:solidFill>
                            <a:srgbClr val="000000"/>
                          </a:solidFill>
                          <a:latin typeface="Times New Roman"/>
                          <a:ea typeface="Times New Roman"/>
                        </a:rPr>
                        <a:t>14,2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2400" rIns="3240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32400" marR="324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39" name="Місце для нижнього колонтитула 2"/>
          <p:cNvSpPr/>
          <p:nvPr/>
        </p:nvSpPr>
        <p:spPr>
          <a:xfrm>
            <a:off x="304920" y="6410160"/>
            <a:ext cx="358128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Georgia"/>
              </a:rPr>
              <a:t>www.sliderpoint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2-11T05:46:25Z</dcterms:created>
  <dc:creator>Кислый Денис</dc:creator>
  <dc:description/>
  <dc:language>en-US</dc:language>
  <cp:lastModifiedBy>LEGION</cp:lastModifiedBy>
  <dcterms:modified xsi:type="dcterms:W3CDTF">2014-11-07T12:30:44Z</dcterms:modified>
  <cp:revision>20</cp:revision>
  <dc:subject/>
  <dc:title>Приказ Министерства здравоохранения и социального развития Российской Федерации (Минздравсоцразвития России) от 3 декабря 2009 г. N 944н г. Москва "Об утверждении Порядка оказания медицинской помощи населению при онкологических заболеваниях"</dc:title>
</cp:coreProperties>
</file>